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D9AB-E433-4263-B1B0-A38CB997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C8ED-64CE-4542-B62E-BB01EF43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BE3-827A-40B2-B38D-4DF0BFEE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B5A3-58AA-428B-9E48-5643B00D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781C-D842-4561-89A0-50CA2D93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B78D-A7EC-4BD0-BE65-A54AB210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65F9-60C9-4310-BA1C-6288BC31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AB00-E3E0-436A-8FB7-2280FC59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CCC2-B5D8-4198-878F-7F0D0BBE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A037-F220-4681-B786-C33C2B3B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11B9-2351-425E-A05E-1E38FCDB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7D3D-4396-4755-AAC5-7F58D3D1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ECCF-7061-4ED8-928F-B1BFB2D8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E255-52A5-4CF2-BC07-7F6ED0C4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5B90-DD3C-4052-89AA-42E890BC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5DA7-C227-47F0-8B73-6532D71B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AC66-6D3C-46F2-A139-107B3950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D7C49-8E6B-4CBD-A669-6569DEEA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48F48-729B-431D-AFEB-AA25E31F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DC019-FD36-459A-BA5A-59397F58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3C942-0E30-42A6-9955-DFE7D571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E8492-DA83-4EE1-970D-F918A7B4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5CF7-47F9-4475-A98F-17187154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F3D5E-6B3B-4726-8BFD-FA8C4678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E6E8A-E833-4259-99B0-89CD782B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6B815-2059-44DA-B010-52018AAA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B9FB9-8ACF-4E55-9393-50727DF6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DEDA4-0CA0-4B16-A231-229D7311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8E2B9-200B-4A8A-9112-56F8D1C3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1193E-9490-4F3D-ACC7-D25B03C3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F79D-AB91-4A79-A766-135260C0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BF4-B34D-4450-9E64-59C43D1A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BF9B-A083-4A45-9F35-2BAF0785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F84-3F07-4B5C-8E5A-0DBC308A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335C-4229-43A8-94AC-076F4E0F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8312-19F9-4BF7-B940-2291CD13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12C1-919A-4142-AB4A-656EA76B86B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B61A-A711-4CD1-AF97-AA2CF2568D9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D23D-FB05-49AD-918B-9A47F1D8417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08000" y="1557360"/>
            <a:ext cx="5328000" cy="2448000"/>
          </a:xfrm>
          <a:prstGeom prst="rect">
            <a:avLst/>
          </a:prstGeom>
        </p:spPr>
        <p:txBody>
          <a:bodyPr wrap="none" lIns="110160" rIns="110160" tIns="55080" bIns="55080" anchor="t" anchorCtr="1">
            <a:prstTxWarp prst="textPlain">
              <a:avLst>
                <a:gd name="adj" fmla="val 52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gram cezhraničnej spolupráce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ďarská republika- Slovenská republik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07-2013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535400" y="4508640"/>
            <a:ext cx="6009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chválenie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. december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Identifikačné číslo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07CB163PO0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1960" y="5495760"/>
            <a:ext cx="19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g. Zsolt Törö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Bratislava, 28.0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1197000"/>
            <a:ext cx="864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abezpečená finančná alokácia za prísne definovaných podmien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dborné pozadie, transfer know-how,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Ne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, posilnenie nových/existujúcich partnerstie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/posilnenie komunikácie na úrovni vertikálnej a horizontál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ealizácia „zdola“ (bottom-up) vychádzajúcich rozvojových zámer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silnenie konkurencieschopnosti regiónov,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7800" y="35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ínos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2200" y="981000"/>
          <a:ext cx="8353440" cy="5106960"/>
        </p:xfrm>
        <a:graphic>
          <a:graphicData uri="http://schemas.openxmlformats.org/drawingml/2006/table">
            <a:tbl>
              <a:tblPr/>
              <a:tblGrid>
                <a:gridCol w="2089080"/>
                <a:gridCol w="2089440"/>
                <a:gridCol w="2085840"/>
                <a:gridCol w="2089080"/>
              </a:tblGrid>
              <a:tr h="107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re CBC (Cross-border Co-operation) 2001-20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nd mal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susedstva HUSKUA 2004-20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cezhraničnej spolupráce HUSK 2007-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čná aloká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372 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372 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8 522 875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5 548 000 EUR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014 05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y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Zrkadlový, - Doplňujú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exemplár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7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5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2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podporen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 program (HU0109): 9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program (2002/000-604): 11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akávania program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zhraničný dop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valá udržateľ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vnosť šanc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kritéri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íp vedúceho partne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7094160" y="32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volúcia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119700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..... prebieha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3.výzv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na prekladanie projektov,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do 28.02.2011, 23.59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5280" y="3510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mentáln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5394" t="21474" r="13619" b="28986"/>
          <a:stretch/>
        </p:blipFill>
        <p:spPr>
          <a:xfrm>
            <a:off x="539640" y="1844640"/>
            <a:ext cx="77043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56360" y="3510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merujem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552680"/>
            <a:ext cx="88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..... k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.výzv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na prekladanie projekt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ý termín zverejnen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2.štvrťrok 2011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á alokác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cca.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8 M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lasti podpory: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 ?, predmetom rokovania S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1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45 009 737,12 EUR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246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6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2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64 635 978,32 EUR, (270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7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edp. finančná alokácia 3. výzvy (EUR)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10 500 000,00 (?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V="1" rot="10800000">
            <a:off x="5586480" y="1051560"/>
            <a:ext cx="324000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ioritné osy a oblasti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565360"/>
            <a:ext cx="399924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1 </a:t>
            </a:r>
            <a:br>
              <a:rPr sz="1700"/>
            </a:b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Hospodárstvo a spoločnosť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41% (85 133 59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Arial"/>
              </a:rPr>
              <a:t>ŽP, ochrana prírody a dostupnos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53% (110 050 746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Technická asist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6% (12 458 57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16000" y="1773360"/>
            <a:ext cx="647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-27000"/>
            <a:ext cx="4629240" cy="6867360"/>
            <a:chOff x="0" y="-27000"/>
            <a:chExt cx="4629240" cy="6867360"/>
          </a:xfrm>
        </p:grpSpPr>
        <p:sp>
          <p:nvSpPr>
            <p:cNvPr id="139" name=""/>
            <p:cNvSpPr/>
            <p:nvPr/>
          </p:nvSpPr>
          <p:spPr>
            <a:xfrm>
              <a:off x="0" y="-27000"/>
              <a:ext cx="4629240" cy="6867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7680" y="161280"/>
              <a:ext cx="2296440" cy="7221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ogram cezhraničnej spoluprá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Maďarsko -Slovens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2007 -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4440" y="864360"/>
              <a:ext cx="0" cy="54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6480" y="1026720"/>
              <a:ext cx="16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48824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8888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480" y="1135080"/>
              <a:ext cx="156744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Hospodárstvo a spoloč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1832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8680" y="1730160"/>
              <a:ext cx="0" cy="42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440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210200" y="1730160"/>
              <a:ext cx="11520" cy="362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8480" y="1135080"/>
              <a:ext cx="156780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ŽP,</a:t>
              </a: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chrana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 dostup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4480" y="189252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upráce     v oblasti hospodárstva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480" y="254124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upráca v oblasti V&amp;V a inováci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8480" y="189252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             na podporu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08480" y="27579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8680" y="2216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8680" y="28652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4400" y="2270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7000" y="6326280"/>
              <a:ext cx="2236320" cy="3776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Technická asist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480" y="319068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očného rozvoja turizm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4480" y="3785760"/>
              <a:ext cx="1555920" cy="64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ý rozvoj a koordinované využívanie zdravotníckych zariaden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4480" y="4542480"/>
              <a:ext cx="1555920" cy="48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5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Rozvoj sieťovania,partnerstva,  prog. &amp; proj. kapacít manažm.</a:t>
              </a: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480" y="513756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využívanie a rozvoj ľudských zdroj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480" y="5786280"/>
              <a:ext cx="1555920" cy="38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ktivity Ľudia ľuď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8680" y="3459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680" y="41637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680" y="47588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8680" y="52999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8680" y="60022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8480" y="340668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Výstavba maloplošných komunikácií, cyklistických trás, verejná doprav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08480" y="4272120"/>
              <a:ext cx="1549440" cy="708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abezpečenie lepších hraničných prechodov cez prihraničné rie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08480" y="51375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lepšenie komunikačných kanál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64400" y="3135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400" y="383940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4400" y="45424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4400" y="53535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Szöveg helye 2"/>
          <p:cNvGraphicFramePr/>
          <p:nvPr/>
        </p:nvGraphicFramePr>
        <p:xfrm>
          <a:off x="2211480" y="115920"/>
          <a:ext cx="4592520" cy="612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7" name="Szöveg hely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1480" y="115920"/>
                    <a:ext cx="45925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42920" y="1989000"/>
            <a:ext cx="889308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765000"/>
            <a:ext cx="21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vostupňová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artnera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MPaRV 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372000" y="1125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328464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ruhostupňová 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rojek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STS Program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0+30 d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372000" y="3789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360" y="1076400"/>
            <a:ext cx="150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ždý part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 s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440" y="338760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edúci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1484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364500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56360" y="3510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kúsenosti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268280"/>
            <a:ext cx="8856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MIS (podávanie ŽoNFP, monitorovacia správa na úrovni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ľúbené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menej obľúbené oblasti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pružné/nasilu vytvorené partnerstvá (počet partnerov, hodnotenie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implementác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ostatočná komunikácia (vertikálna, horizontál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sotatočné finančné zázemie (finančná kríz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únosné množstvo žiadostí o zmenu projektu (realokácia financií, zmena manažérov, predĺženie projektu,.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dstúpenie od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+3/2 parv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ízka kvalita predložených monitorovacích s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adhotnotené indiká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ublicity guide (striktné predpisy),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84464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Ďakujem za pozornosť a v mene 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ám prajem veľa úspech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 implementáci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abúdajte: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ak máte pochybnos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pýtajte sa!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y sme tu pre Vás a Vy ste tu pre nás </a:t>
            </a:r>
            <a:r>
              <a:rPr b="0" lang="sk-SK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9:42:45Z</dcterms:created>
  <dc:creator>thomas</dc:creator>
  <dc:description/>
  <dc:language>en-US</dc:language>
  <cp:lastModifiedBy>TorokZsolt</cp:lastModifiedBy>
  <dcterms:modified xsi:type="dcterms:W3CDTF">2011-02-25T11:03:08Z</dcterms:modified>
  <cp:revision>39</cp:revision>
  <dc:subject/>
  <dc:title>1. dia</dc:title>
</cp:coreProperties>
</file>